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122-C23D-430E-BEEF-4D081558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65D-3397-49BF-AFAA-59D04A5D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A55-E144-4DC0-A70D-8A329785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549-BF20-4608-888C-5CB3C15F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7A05-660E-448D-AF07-637A4BB7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7E69-ABC1-40B7-A42D-DEB430BD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DB44-534D-4CDE-BEBD-2E7BDDB3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5862-28EB-4381-B596-9E8D0BF8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3576-51CC-4DD7-9C47-A730E004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E3EE-BDBE-47F6-8F6A-373640F2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2AC9-616D-4BC7-ABBA-7A335845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D9E-90D1-44B6-9291-EB810A5D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5127-06AE-41E6-91D2-C9A50D00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3CD9-F52A-4FFC-98F3-88393185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C2D2-F896-491D-B4B6-65BF4B29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8350-A993-4C27-A34F-9DB17105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DB8E-8F5C-44CF-9E92-5E7BAA36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560-0C90-49BC-B83B-0E3D1B2F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0C1-C7F3-42AF-AF90-3B059B7C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3A7-2B58-45CF-B495-0A39F8AA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A22-88A5-4628-A6BD-B2FDBAAB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DA1-6FD9-4793-97DA-6AE2CBAC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50F-30A7-45FC-8C53-FB455A2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24F-9437-402B-BC7A-6E32CE0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0A9E-BB75-4BEA-BF23-A05B2BC198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566D-C886-4D29-9D01-2FB13A5E0EB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ема: «Природные сообщества»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6 класс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Учитель химии и биологии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кв.кат.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алеева Л.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5" descr="i-6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a0c7360e064569d2eeacc3df9f3d2cfe"/>
          <p:cNvPicPr/>
          <p:nvPr/>
        </p:nvPicPr>
        <p:blipFill>
          <a:blip r:embed="rId1"/>
          <a:stretch/>
        </p:blipFill>
        <p:spPr>
          <a:xfrm>
            <a:off x="324000" y="174600"/>
            <a:ext cx="777528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5" descr="i-1058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5" descr="i-1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5" descr="i-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7" descr="i-1527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i-642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050920" y="0"/>
            <a:ext cx="5139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5" descr="i-961"/>
          <p:cNvPicPr/>
          <p:nvPr/>
        </p:nvPicPr>
        <p:blipFill>
          <a:blip r:embed="rId1"/>
          <a:stretch/>
        </p:blipFill>
        <p:spPr>
          <a:xfrm>
            <a:off x="17928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5" descr="i-828"/>
          <p:cNvPicPr/>
          <p:nvPr/>
        </p:nvPicPr>
        <p:blipFill>
          <a:blip r:embed="rId1"/>
          <a:stretch/>
        </p:blipFill>
        <p:spPr>
          <a:xfrm>
            <a:off x="0" y="0"/>
            <a:ext cx="936144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5" descr="i-1088"/>
          <p:cNvPicPr/>
          <p:nvPr/>
        </p:nvPicPr>
        <p:blipFill>
          <a:blip r:embed="rId1"/>
          <a:stretch/>
        </p:blipFill>
        <p:spPr>
          <a:xfrm>
            <a:off x="0" y="135000"/>
            <a:ext cx="939636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5" descr="i-821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5" descr="i-823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 – сосна, 2 – карась, 3 – черника, 4 – жаворонок, 5 – полевка (мышь), 6 – ряска, 7 – ландыш майский,  8 – дятел, 9 – пижма обыкновенная, 10 – зверобой,  11 – ель обыкновенная,  12 – выдра, 13–  лось, 14 – маслено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1,3,7,8,11,13,14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4,5,9,10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 2,6,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5" descr="i-646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йте схему пищевой цепи, включив в нее следующие организмы: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яц, лиса, травянистое растение, кузнечик, лягушка, волк, змея, ястреб, сова,  мышь, гусеница, кукушка, перепелка, дятел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пи пит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- гусеница – кукуш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–кузнечик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ягушка – змея – ястреб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5" descr="i-8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акие утверждения верны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тепь является сообществ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Б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В сообществе все организмы связаны между соб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) Потребителем является берез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) Дождевой червь относится к производител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) Сова – это разрушител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Е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Цепи питания в сообществах образуют сложные сети пит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) Обычно цепи питания состоят из 8 – 10 звенье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7" descr="i-5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i-1086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. 25 изучить, выполнить задание на с.  170, устно ответить на вопросы на стр. 171; подготовить сообщение о взаимодействии организмов в любом сообществе (по желанию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Образовательны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крыть понятие «Природные сообществ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пределить основные компоненты сообщества, сложность их взаимоотношений на примере цепей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меть составлять простые цепи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Развивающи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должить осваивать технологию индивидуализированного  обуче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звивать навыки установления причинно-следственных связей, работы с учебником, извлекая из них полезную информацию,  находить по его рисункам необходимые сведения для выполнения задан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Воспитательны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здать условия для индивидуализированной продуктивной работы каждого учени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тивировать учебную деятельность поэтапным достижением результа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кологические факто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28760" y="2071800"/>
          <a:ext cx="8229600" cy="3355920"/>
        </p:xfrm>
        <a:graphic>
          <a:graphicData uri="http://schemas.openxmlformats.org/drawingml/2006/table">
            <a:tbl>
              <a:tblPr/>
              <a:tblGrid>
                <a:gridCol w="4329000"/>
                <a:gridCol w="390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кологические фактор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неживой природы (абиотические)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А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Б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В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живой природы (биотические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Деятельность человека (антропогенный фактор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i-1068"/>
          <p:cNvPicPr/>
          <p:nvPr/>
        </p:nvPicPr>
        <p:blipFill>
          <a:blip r:embed="rId1"/>
          <a:stretch/>
        </p:blipFill>
        <p:spPr>
          <a:xfrm>
            <a:off x="-10800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188640"/>
            <a:ext cx="780408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i-974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i-1059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5" descr="i-14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2:01:08Z</dcterms:created>
  <dc:creator>Роберт</dc:creator>
  <dc:description/>
  <dc:language>en-US</dc:language>
  <cp:lastModifiedBy>Ray</cp:lastModifiedBy>
  <dcterms:modified xsi:type="dcterms:W3CDTF">2013-03-14T08:09:55Z</dcterms:modified>
  <cp:revision>7</cp:revision>
  <dc:subject/>
  <dc:title>Слайд 1</dc:title>
</cp:coreProperties>
</file>